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8B44-5C56-47AB-AF6C-8891BBE78E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3EDE-E56C-42F9-B72F-96755CB848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C22-1064-4F71-A0B8-5E622B01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DEF-AC39-4FDB-B547-8B666894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6EE-BC4E-484F-84C9-4E847E32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F9F-307A-4640-991F-211BD3BA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F8B-CC58-4F7D-9918-23C672A4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6B2-8378-45EF-888E-B9242ED2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4FC-997E-49A2-BFF0-0F8AA8C2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296-2D08-4C19-9514-4B239238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788-EFB1-4776-AE20-08E9715A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F2E-894E-4C83-A75A-56046FA1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FC9-A1C1-4CA5-8974-62F95CC9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658-1C96-415E-ABA0-E91816EB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358D-2FC4-4AD5-B625-FADE62AB9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4E0D-FFB7-4714-BC1E-1FFC2B6C36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феврал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83DA-63FB-499C-9B59-1EE4797BEF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феврал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1-25T12:01:05Z</dcterms:modified>
  <cp:revision>164</cp:revision>
  <dc:subject/>
  <dc:title>Презентация PowerPoint</dc:title>
</cp:coreProperties>
</file>